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D50-B685-47E6-8AC7-71B4A59F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F8B-CB09-4E80-A110-B772F2C7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DD3-906B-45E8-8F8C-FCE5F317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CCC-4FFD-44E6-B39E-B4501F3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963-D3DC-4386-99E3-837D7C6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E4F-214A-4E41-9FD2-B00080E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5C4-F828-45CC-B287-9A6D0BF0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235-AF7A-491D-93E7-7C2CFC8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7B9-8CA4-4060-A92E-EC13AF3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B1D-6193-48E7-99B1-92DDDA2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30C-9E7D-4AD9-8533-CF98F9C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822-A014-48EE-8166-30E2E0B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7C60-8634-4FD9-93DB-F9C30DD91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center around a particalar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d or s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se still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/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22100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/ded/i/cal/t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22T18:18:41Z</dcterms:modified>
  <cp:revision>1</cp:revision>
  <dc:subject/>
  <dc:title>PowerPoint Presentation</dc:title>
</cp:coreProperties>
</file>